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D98-151D-4431-B8B2-A84C10D3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145-6FC5-441A-A868-62F5A6E5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092-E92E-498B-8A1A-59D50B42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057-B31F-4AC1-8F50-104BC288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F42-437D-445C-B1B8-4252FB1C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DC9-0F84-4A83-90D5-3B2C5B9A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662-131D-4FA8-8546-7FF4F6FD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E22-657A-4100-A562-3422F18B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40A-7E79-4D65-AA81-27E4FEEA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7C0-7357-4859-A18C-C516E3FA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280-9BCE-4B2C-BE26-4D22FAAA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4E18-34CF-4B5D-8B05-F697811A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047A-AD52-443F-9898-5E11A8C522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403200" y="1628640"/>
            <a:ext cx="822960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б итогах приемной кампании 2019 года в государственные профессиональные образовательные организ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17"/>
          <p:cNvSpPr/>
          <p:nvPr/>
        </p:nvSpPr>
        <p:spPr>
          <a:xfrm>
            <a:off x="2908440" y="5362560"/>
            <a:ext cx="5984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Arial"/>
              </a:rPr>
              <a:t>Мочалов Александр Николаевич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руководитель управления профессион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образования и нау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09.10.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ая соединительная линия 19"/>
          <p:cNvSpPr/>
          <p:nvPr/>
        </p:nvSpPr>
        <p:spPr>
          <a:xfrm>
            <a:off x="4518000" y="5229360"/>
            <a:ext cx="437508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88920" y="826920"/>
          <a:ext cx="8966160" cy="6012000"/>
        </p:xfrm>
        <a:graphic>
          <a:graphicData uri="http://schemas.openxmlformats.org/drawingml/2006/table">
            <a:tbl>
              <a:tblPr/>
              <a:tblGrid>
                <a:gridCol w="8966160"/>
              </a:tblGrid>
              <a:tr h="343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II</a:t>
                      </a: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группа (10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,0 – </a:t>
                      </a: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,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й центр с. Камыш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металлургический коллед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рский государственны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техникум промышлен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енчукский аграрны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нель-Черкасский сельскохозяйственны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41588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стравское профессиональное учил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шаровский государственный технику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гатовское профессиональное учил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энергетический коллед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торгово-экономический коллед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паевский химико-технологически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адненский нефтяно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ональное училище с. Домаш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паевский губернский колледж им. О.Колыч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ский техникум строительных и сервисных технологий им. В.Г. Куба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фтегорский государственны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бернский техникум м.р. Кошк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41768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химико-технологически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многопрофильный колледж им. Бартенева В.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дж гуманитарных и социально-педагогических дисцип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ое областное училище культуры и искус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ярское профессиональное учил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ое художественное учил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3979FBD8-EC3B-485E-8434-AC897DB279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2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1"/>
          <p:cNvSpPr/>
          <p:nvPr/>
        </p:nvSpPr>
        <p:spPr>
          <a:xfrm>
            <a:off x="0" y="11448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зультаты мониторинга эффективности деятельности государственных профессиональных образовательных организаций Сама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5DCE46F6-802B-44AF-BA89-2CF2E18810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1440" y="4428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135000" y="158760"/>
            <a:ext cx="86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ализация краткосрочных програ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1093" t="12435" r="32560" b="30517"/>
          <a:stretch/>
        </p:blipFill>
        <p:spPr>
          <a:xfrm>
            <a:off x="22320" y="1484280"/>
            <a:ext cx="3821040" cy="28432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90" name="TextBox 4"/>
          <p:cNvSpPr/>
          <p:nvPr/>
        </p:nvSpPr>
        <p:spPr>
          <a:xfrm>
            <a:off x="4067280" y="1371600"/>
            <a:ext cx="46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 02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ловек – прошли обучение в 2019 году (по состоянию на 1 сентябр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059360" y="2421000"/>
          <a:ext cx="4914720" cy="2063520"/>
        </p:xfrm>
        <a:graphic>
          <a:graphicData uri="http://schemas.openxmlformats.org/drawingml/2006/table">
            <a:tbl>
              <a:tblPr/>
              <a:tblGrid>
                <a:gridCol w="4194000"/>
                <a:gridCol w="7207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медицин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медицин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социально-педагогиче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бернский колледж Похвистне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зранский медико-гуманитарны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14D45F63-53CF-4724-B77D-4977E8453F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0" y="4428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34920" y="15876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ализация профессионального обучения и дополнительного профессионального образования граждан предпенсионного возраста в 2019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1052640"/>
          <a:ext cx="8713800" cy="5983200"/>
        </p:xfrm>
        <a:graphic>
          <a:graphicData uri="http://schemas.openxmlformats.org/drawingml/2006/table">
            <a:tbl>
              <a:tblPr/>
              <a:tblGrid>
                <a:gridCol w="4321080"/>
                <a:gridCol w="863640"/>
                <a:gridCol w="2736720"/>
                <a:gridCol w="792360"/>
              </a:tblGrid>
              <a:tr h="411480"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бразовательно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В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о по состоянию на 07.10.2019 г., че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о, 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540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Новокуйбышевский гуманитарно-технологически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7 человек проходит обучени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Колледж технического и художественного образован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Самарский государственны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Самарский колледж сервиса производственного оборудования им. Героя Российской Федерации Е.В. Золотухи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Тольяттинский машиностроительны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Тольяттинский социально-педагогически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63 в процессе обучен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Тольяттинский электротехнический техникум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Губернский колледж г. Сызран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роходит обучение 20 чел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Тольяттинский индустриально-педагогически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Самарский государственный колледж сервисных технологий и дизай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Самарский техникум кулинарного искусств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47в процессе обучен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Самарский техникум промышленных технологий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76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Самарский торгово-экономически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 в процессе обучен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380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Технологический колледж им. Н.Д. Кузнецов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ПО с 16.09-09.11)  16 (ДПО с 30.09-26.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4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Поволжский государственны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Самарский социально-педагогически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(Группы в процессе формирован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   (проходят обучение 169 че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D495F928-C756-4112-B84F-336E14E3D1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12"/>
          <p:cNvSpPr/>
          <p:nvPr/>
        </p:nvSpPr>
        <p:spPr>
          <a:xfrm>
            <a:off x="0" y="4428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ttps://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офстажировки.рф/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udent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5053" t="2817" r="19628" b="5431"/>
          <a:stretch/>
        </p:blipFill>
        <p:spPr>
          <a:xfrm>
            <a:off x="190440" y="836640"/>
            <a:ext cx="855828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Итоги приемной кампании в профессиональные образовательные организации Самар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1" descr=""/>
          <p:cNvPicPr/>
          <p:nvPr/>
        </p:nvPicPr>
        <p:blipFill>
          <a:blip r:embed="rId1"/>
          <a:stretch/>
        </p:blipFill>
        <p:spPr>
          <a:xfrm>
            <a:off x="2144880" y="2514600"/>
            <a:ext cx="6870600" cy="4133880"/>
          </a:xfrm>
          <a:prstGeom prst="rect">
            <a:avLst/>
          </a:prstGeom>
          <a:ln w="0">
            <a:noFill/>
          </a:ln>
        </p:spPr>
      </p:pic>
      <p:sp>
        <p:nvSpPr>
          <p:cNvPr id="46" name="Объект 7"/>
          <p:cNvSpPr/>
          <p:nvPr/>
        </p:nvSpPr>
        <p:spPr>
          <a:xfrm>
            <a:off x="108000" y="958680"/>
            <a:ext cx="3311640" cy="2087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Выполнение КЦ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2019 – 99,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2018 – 97,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2017 – 95,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0" y="115920"/>
            <a:ext cx="9144000" cy="9144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инамика выполнения КЦП по профилям подготов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2200" y="1413000"/>
          <a:ext cx="8497800" cy="4725720"/>
        </p:xfrm>
        <a:graphic>
          <a:graphicData uri="http://schemas.openxmlformats.org/drawingml/2006/table">
            <a:tbl>
              <a:tblPr/>
              <a:tblGrid>
                <a:gridCol w="6337440"/>
                <a:gridCol w="718920"/>
                <a:gridCol w="720720"/>
                <a:gridCol w="720720"/>
              </a:tblGrid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74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профессии и специальности сферы IT-технологий, электро- и теплоэнергетика, машиностроения,  химические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строитель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технический профи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сельское хозяй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профессии и специальности пищевой промышл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здравоо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7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науки об обществе (социология, экономика, юриспруденция, сервис и туриз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0" y="115920"/>
            <a:ext cx="9144000" cy="10526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высококвалифицированных специалистов и рабочих кадров с учетом современных стандартов и передовых технолог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бочие кадры для передовых технологий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Диаграмма 1" descr=""/>
          <p:cNvPicPr/>
          <p:nvPr/>
        </p:nvPicPr>
        <p:blipFill>
          <a:blip r:embed="rId1"/>
          <a:stretch/>
        </p:blipFill>
        <p:spPr>
          <a:xfrm>
            <a:off x="200160" y="1217520"/>
            <a:ext cx="4278240" cy="2549520"/>
          </a:xfrm>
          <a:prstGeom prst="rect">
            <a:avLst/>
          </a:prstGeom>
          <a:ln w="0">
            <a:noFill/>
          </a:ln>
        </p:spPr>
      </p:pic>
      <p:pic>
        <p:nvPicPr>
          <p:cNvPr id="51" name="Диаграмма 2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3990960" cy="2765520"/>
          </a:xfrm>
          <a:prstGeom prst="rect">
            <a:avLst/>
          </a:prstGeom>
          <a:ln w="0">
            <a:noFill/>
          </a:ln>
        </p:spPr>
      </p:pic>
      <p:pic>
        <p:nvPicPr>
          <p:cNvPr id="52" name="Диаграмма 8" descr=""/>
          <p:cNvPicPr/>
          <p:nvPr/>
        </p:nvPicPr>
        <p:blipFill>
          <a:blip r:embed="rId3"/>
          <a:stretch/>
        </p:blipFill>
        <p:spPr>
          <a:xfrm>
            <a:off x="4737240" y="3933720"/>
            <a:ext cx="3990960" cy="2765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4643280" y="141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0" y="1268280"/>
          <a:ext cx="4392720" cy="2266920"/>
        </p:xfrm>
        <a:graphic>
          <a:graphicData uri="http://schemas.openxmlformats.org/drawingml/2006/table">
            <a:tbl>
              <a:tblPr/>
              <a:tblGrid>
                <a:gridCol w="1224000"/>
                <a:gridCol w="1297080"/>
                <a:gridCol w="1871640"/>
              </a:tblGrid>
              <a:tr h="165744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Целевой индикатор  комплекса мер, направленных на совершенствование системы СПО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на 2015-2020 го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«Доля ПОО, в которых осуществляется подготовка кадров по 50 наиболее перспективным и востребованным на рынке труда профессиям и специальностя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6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600" y="138240"/>
            <a:ext cx="9023400" cy="1052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объема и структуры контрольных цифр приема граждан для обучения по образовательным программам среднего профессионального образования за счет средств бюджета Самарской области на 2020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Диаграмма 2" descr=""/>
          <p:cNvPicPr/>
          <p:nvPr/>
        </p:nvPicPr>
        <p:blipFill>
          <a:blip r:embed="rId1"/>
          <a:stretch/>
        </p:blipFill>
        <p:spPr>
          <a:xfrm>
            <a:off x="150840" y="1301760"/>
            <a:ext cx="521316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Выгнутая вниз стрелка 15"/>
          <p:cNvSpPr/>
          <p:nvPr/>
        </p:nvSpPr>
        <p:spPr>
          <a:xfrm>
            <a:off x="3635280" y="3595680"/>
            <a:ext cx="1209600" cy="431640"/>
          </a:xfrm>
          <a:custGeom>
            <a:avLst/>
            <a:gdLst>
              <a:gd name="textAreaLeft" fmla="*/ 261720 w 1209600"/>
              <a:gd name="textAreaRight" fmla="*/ 893880 w 12096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55" hR="21600" stAng="10800000" swAng="-5400000"/>
                <a:lnTo>
                  <a:pt x="11282" y="21600"/>
                </a:lnTo>
                <a:arcTo wR="9355" hR="21600" stAng="5400000" swAng="-3551812"/>
                <a:lnTo>
                  <a:pt x="21303" y="5400"/>
                </a:lnTo>
                <a:lnTo>
                  <a:pt x="19673" y="0"/>
                </a:lnTo>
                <a:lnTo>
                  <a:pt x="17448" y="5400"/>
                </a:lnTo>
                <a:lnTo>
                  <a:pt x="18412" y="5400"/>
                </a:lnTo>
                <a:arcTo wR="9355" hR="21600" stAng="1848188" swAng="3397749"/>
                <a:lnTo>
                  <a:pt x="10318" y="21485"/>
                </a:lnTo>
                <a:arcTo wR="9355" hR="21600" stAng="5554062" swAng="5245938"/>
                <a:close/>
              </a:path>
              <a:path fill="darkenLess" w="21600" h="21600">
                <a:moveTo>
                  <a:pt x="0" y="0"/>
                </a:moveTo>
                <a:arcTo wR="9355" hR="21600" stAng="10800000" swAng="-5400000"/>
                <a:lnTo>
                  <a:pt x="11282" y="21600"/>
                </a:lnTo>
                <a:arcTo wR="9355" hR="21600" stAng="5400000" swAng="154062"/>
                <a:lnTo>
                  <a:pt x="10318" y="21485"/>
                </a:lnTo>
                <a:arcTo wR="9355" hR="21600" stAng="5554062" swAng="5245938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Выгнутая вниз стрелка 16"/>
          <p:cNvSpPr/>
          <p:nvPr/>
        </p:nvSpPr>
        <p:spPr>
          <a:xfrm>
            <a:off x="2124000" y="3587760"/>
            <a:ext cx="1332000" cy="431640"/>
          </a:xfrm>
          <a:custGeom>
            <a:avLst/>
            <a:gdLst>
              <a:gd name="textAreaLeft" fmla="*/ 292320 w 1332000"/>
              <a:gd name="textAreaRight" fmla="*/ 985680 w 1332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87" hR="21600" stAng="10800000" swAng="-5400000"/>
                <a:lnTo>
                  <a:pt x="11238" y="21600"/>
                </a:lnTo>
                <a:arcTo wR="9487" hR="21600" stAng="5400000" swAng="-3573008"/>
                <a:lnTo>
                  <a:pt x="21299" y="5400"/>
                </a:lnTo>
                <a:lnTo>
                  <a:pt x="19850" y="0"/>
                </a:lnTo>
                <a:lnTo>
                  <a:pt x="17798" y="5400"/>
                </a:lnTo>
                <a:lnTo>
                  <a:pt x="18673" y="5400"/>
                </a:lnTo>
                <a:arcTo wR="9487" hR="21600" stAng="1826992" swAng="3433148"/>
                <a:lnTo>
                  <a:pt x="10363" y="21508"/>
                </a:lnTo>
                <a:arcTo wR="9487" hR="21600" stAng="5539860" swAng="5260140"/>
                <a:close/>
              </a:path>
              <a:path fill="darkenLess" w="21600" h="21600">
                <a:moveTo>
                  <a:pt x="0" y="0"/>
                </a:moveTo>
                <a:arcTo wR="9487" hR="21600" stAng="10800000" swAng="-5400000"/>
                <a:lnTo>
                  <a:pt x="11238" y="21600"/>
                </a:lnTo>
                <a:arcTo wR="9487" hR="21600" stAng="5400000" swAng="139860"/>
                <a:lnTo>
                  <a:pt x="10363" y="21508"/>
                </a:lnTo>
                <a:arcTo wR="9487" hR="21600" stAng="5539860" swAng="5260140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Выгнутая вниз стрелка 17"/>
          <p:cNvSpPr/>
          <p:nvPr/>
        </p:nvSpPr>
        <p:spPr>
          <a:xfrm>
            <a:off x="684360" y="3576600"/>
            <a:ext cx="1366560" cy="432000"/>
          </a:xfrm>
          <a:custGeom>
            <a:avLst/>
            <a:gdLst>
              <a:gd name="textAreaLeft" fmla="*/ 300960 w 1366560"/>
              <a:gd name="textAreaRight" fmla="*/ 1011600 w 13665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1" hR="21600" stAng="10800000" swAng="-5400000"/>
                <a:lnTo>
                  <a:pt x="11227" y="21600"/>
                </a:lnTo>
                <a:arcTo wR="9521" hR="21600" stAng="5400000" swAng="-3578297"/>
                <a:lnTo>
                  <a:pt x="21298" y="5400"/>
                </a:lnTo>
                <a:lnTo>
                  <a:pt x="19894" y="0"/>
                </a:lnTo>
                <a:lnTo>
                  <a:pt x="17886" y="5400"/>
                </a:lnTo>
                <a:lnTo>
                  <a:pt x="18739" y="5400"/>
                </a:lnTo>
                <a:arcTo wR="9521" hR="21600" stAng="1821703" swAng="3442061"/>
                <a:lnTo>
                  <a:pt x="10374" y="21513"/>
                </a:lnTo>
                <a:arcTo wR="9521" hR="21600" stAng="5536236" swAng="5263764"/>
                <a:close/>
              </a:path>
              <a:path fill="darkenLess" w="21600" h="21600">
                <a:moveTo>
                  <a:pt x="0" y="0"/>
                </a:moveTo>
                <a:arcTo wR="9521" hR="21600" stAng="10800000" swAng="-5400000"/>
                <a:lnTo>
                  <a:pt x="11227" y="21600"/>
                </a:lnTo>
                <a:arcTo wR="9521" hR="21600" stAng="5400000" swAng="136236"/>
                <a:lnTo>
                  <a:pt x="10374" y="21513"/>
                </a:lnTo>
                <a:arcTo wR="9521" hR="21600" stAng="5536236" swAng="5263764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4003560" y="35766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8,4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2610000" y="35766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,9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1116000" y="35672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,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317520" y="4149720"/>
            <a:ext cx="4333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КЦП по программам ПКРС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5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0,6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ТОП-50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4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специальности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дитивные технологии, Обеспечение информационной безопасности автоматизированных сист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Диаграмма 2" descr=""/>
          <p:cNvPicPr/>
          <p:nvPr/>
        </p:nvPicPr>
        <p:blipFill>
          <a:blip r:embed="rId2"/>
          <a:stretch/>
        </p:blipFill>
        <p:spPr>
          <a:xfrm>
            <a:off x="5276880" y="1293840"/>
            <a:ext cx="3809880" cy="2344680"/>
          </a:xfrm>
          <a:prstGeom prst="rect">
            <a:avLst/>
          </a:prstGeom>
          <a:ln w="0">
            <a:noFill/>
          </a:ln>
        </p:spPr>
      </p:pic>
      <p:pic>
        <p:nvPicPr>
          <p:cNvPr id="65" name="Диаграмма 13" descr=""/>
          <p:cNvPicPr/>
          <p:nvPr/>
        </p:nvPicPr>
        <p:blipFill>
          <a:blip r:embed="rId3"/>
          <a:stretch/>
        </p:blipFill>
        <p:spPr>
          <a:xfrm>
            <a:off x="5291280" y="4468680"/>
            <a:ext cx="3462120" cy="1992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4788000" y="3825720"/>
            <a:ext cx="4572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м КЦП по ТОП-5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бщем объеме, %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12600" y="138240"/>
            <a:ext cx="9023400" cy="1052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объема и структуры контрольных цифр приема граждан для обучения по образовательным программам среднего профессионального образования за счет средств бюджета Самарской области на 2020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39760" y="1773360"/>
          <a:ext cx="8569440" cy="4241520"/>
        </p:xfrm>
        <a:graphic>
          <a:graphicData uri="http://schemas.openxmlformats.org/drawingml/2006/table">
            <a:tbl>
              <a:tblPr/>
              <a:tblGrid>
                <a:gridCol w="5641920"/>
                <a:gridCol w="976320"/>
                <a:gridCol w="974880"/>
                <a:gridCol w="976320"/>
              </a:tblGrid>
              <a:tr h="54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Ц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Ц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Ц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и и специальности сферы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технологий, электро- и теплоэнергетика, машиностроения,  химические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итель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по техническому профи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ьское хозяй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3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и и специальности пищевой промышл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равоо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ки об обществе (экономика, юриспруденция,  сервис и туриз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E72AB57A-B332-4E43-841F-22FC4E9148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2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1"/>
          <p:cNvSpPr/>
          <p:nvPr/>
        </p:nvSpPr>
        <p:spPr>
          <a:xfrm>
            <a:off x="108000" y="0"/>
            <a:ext cx="86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зультаты мониторинга эффективности деятельности государственных профессиональных образовательных организаций Сама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43280" y="1700280"/>
          <a:ext cx="4032360" cy="452268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группа (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7,0 - 19,0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ьяттинский социально-педагогический 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арский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лжский государстве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куйбышевский гуманитарно-технологический 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73" name="Picture 87" descr=""/>
          <p:cNvPicPr/>
          <p:nvPr/>
        </p:nvPicPr>
        <p:blipFill>
          <a:blip r:embed="rId1"/>
          <a:srcRect l="6663" t="1728" r="7764" b="7436"/>
          <a:stretch/>
        </p:blipFill>
        <p:spPr>
          <a:xfrm>
            <a:off x="371520" y="1341360"/>
            <a:ext cx="34560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F0795E4F-EE6C-4801-8FA0-7DF2F501A7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2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0" y="11448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зультаты мониторинга эффективности деятельности государственных профессиональных образовательных организаций Сама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9280" y="1052640"/>
          <a:ext cx="8785440" cy="5608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I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группа (19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,0 - 1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,0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государственный колледж сервисных технологий и диза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окуйбышевский нефтехимический техник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техникум кулинарного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социально-педагогиче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зранский колледж искусств и культуры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>
                        <a:alpha val="20000"/>
                      </a:srgbClr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индустриально-педагогиче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дж технического и художественного образ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колледж сервиса производственного оборуд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олжский строительно-энергетический колледж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машиностроительны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колледж сервисных технологий и предпринима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гулевский государственны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техникум авиационного и промышленного машиностроения имени Д.И. Коз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социально-экономиче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музыкальный колледж им. Р.К.Щед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>
                        <a:alpha val="20000"/>
                      </a:srgbClr>
                    </a:solidFill>
                  </a:tcPr>
                </a:tc>
              </a:tr>
              <a:tr h="131004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политехниче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машиностроительны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зранский медико-гуманитарны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гиевский губернский техник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глушицкий государственный техник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485AB675-93A0-4828-AC29-6C6B45CEE2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2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0" y="11448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зультаты мониторинга эффективности деятельности государственных профессиональных образовательных организаций Сама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42920" y="1413000"/>
          <a:ext cx="8785080" cy="478764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382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I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группа (19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,0 - 1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,0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ческий колледж имени Н.Д. Кузнец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ексеевское профессиональное училищ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медицинский 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бернский колледж г. Сыз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>
                        <a:alpha val="20000"/>
                      </a:srgbClr>
                    </a:solidFill>
                  </a:tcPr>
                </a:tc>
              </a:tr>
              <a:tr h="124596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зранский политехнический 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медицинский колледж им. Н. Ляпи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ольский сельскохозяйственный техник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политехнический 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бернский колледж города Похвистн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электротехнический техник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нельский государственный техник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>
                        <a:alpha val="20000"/>
                      </a:srgbClr>
                    </a:solidFill>
                  </a:tcPr>
                </a:tc>
              </a:tr>
              <a:tr h="95724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воростянский государственный технику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армейское профессиональное училищ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ое музыкальное училище им. Д.Г.Шата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2T12:07:34Z</dcterms:created>
  <dc:creator>Юлия В. Ферапонтова</dc:creator>
  <dc:description/>
  <dc:language>en-US</dc:language>
  <cp:lastModifiedBy>GK2</cp:lastModifiedBy>
  <cp:lastPrinted>2019-10-08T16:10:11Z</cp:lastPrinted>
  <dcterms:modified xsi:type="dcterms:W3CDTF">2019-10-09T09:40:31Z</dcterms:modified>
  <cp:revision>159</cp:revision>
  <dc:subject/>
  <dc:title>Анализ работы предметных комиссий Самарской области</dc:title>
</cp:coreProperties>
</file>