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2E10-0B5B-478B-9AAF-44914B8677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3D9A-D88F-498C-802E-C8C10ABD21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3877-7258-4017-A0ED-CF32F15C8D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54A9-1719-46E4-B87A-661E83F0B2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A28B-1B72-40D0-8956-47FDF86E01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3786-41BA-4F40-BDE1-A5DE0B9B62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4498-71F1-47F9-8C22-32FF2594F9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A7FA-4E0A-486B-8A62-F80CFC2D64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12F5-B305-4C21-88F7-8F53CAD97C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F7E8-0526-4579-972F-0D041D07C5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8C63-43BB-4BFD-AFFD-39A5FDBA4B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021C-6CFB-4A8F-A785-DEB36DD3F1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D8D1-1D3F-43DE-BDD2-B33954CBA0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04E4-60CF-45C3-A852-F46AE1C8E7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DEAF-1714-481D-A2F0-B8CFC645B9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50CD-060A-4434-98A3-4FF51E16C5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3688-6A68-4841-AB6B-82D9F7D234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C1D7-237E-4086-A2AE-0CC5AB5A1E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7AAE-B319-4E41-9A9E-B564AFE25D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820D-F7E1-44E4-924D-8713BF1436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85B8-955E-4EDA-A42D-073658E6AA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33C2-C644-487E-8F60-42B319AF5B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2E3F-3185-49C9-8B0D-FFDA68697D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8F22-0ECC-4A8D-A5FE-E98753CBA2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EBB4-286C-45F4-B3D5-914B28762E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9B68-05B1-43FF-A1B0-8D0B102F2C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0956-113F-4059-998E-E0572AAC17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055C-F538-43C4-B4A7-05E3C8C602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124A-3C0A-44B2-9BFC-F10FF247B2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B1FE-FD95-4EE8-A317-283B2A1725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8C06-372E-43B3-AE6B-7B8DBF8F74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FF8E-6DF0-4AB9-8D52-91095F4BD5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5483-0A73-4B8F-9DE2-EE3EF2A858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6DAD-24E2-4447-A7E2-DF4EB8E749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2847-4E80-4128-9D6E-1DC30A8305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E10B-1FF9-4078-A191-D8599341D8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992E-656E-4E79-B3B7-C0DD3F9861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B18D-8556-4BC3-A402-11C4400167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386F-DF27-4F01-8B85-235C90B338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ACB-85AB-44F7-9E64-BAD2E9A5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45CB-823D-47C5-822B-E6B76103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E0201-900F-4957-9808-FB5F57EC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226BB-9E67-4C9D-92FB-2323D3C4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29A44-1FB8-45E1-BD01-DF06EFCA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AC4B8-24D0-4F96-989D-7B1389C9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6BBC9-122B-4772-8A41-3B25D71D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08245-CFCB-491B-B308-DFB4CC54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F01EE-AA0E-4365-A4FA-9FDE3F28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23C58-2A57-416B-915F-8065FFDB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00E37-2DAD-4C2F-ACF2-7F2A8F4D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4280F-9497-459E-9CFC-6CE1D3F6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51F-0644-42DF-8304-637BE81E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64D79-5C75-40B4-9958-014621E4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A5D85-79A7-432B-9FAF-A4ED2C44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DEA51-3BAB-4918-BA40-DFDEBC1C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31145-2E77-4BEB-B32E-0CA317A2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C71B3-909B-4D09-B421-5351BC41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69FC4-E11A-428A-BA1D-8AF8D422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9446D-0F94-40AE-8DA3-F180DA26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AE6E5-C146-494E-9C13-F3241C05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B1D55-CEDA-4705-AD8D-0AE490F2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36FAF-9A44-402B-BE6F-AC285278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920A-2453-43DA-9D06-31076C0B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7966D-72C7-4CD7-866D-F9BB153D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C297C-63A2-4418-8D2F-333B4E5D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86987-E81D-4B65-B850-5B538AF8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10926-F115-42C3-A806-CA3E7B63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4CA27-0732-404C-AFE7-E871F06F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E96AE-CDAB-4118-9440-DB199B6D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8C118-E7CE-4822-968F-63CEF5A1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58146-8AE9-40A1-8065-0F54BDBA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DB704-E12B-452E-B7C1-1782BEE5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3BB3F-B319-4801-8B0E-6C320552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B2CEF-56CA-4B60-9795-FA41865E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D61F0-1E99-4CA5-BA9D-CC3EB0B2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A4282-545F-4D0F-B2CF-6D47FE79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79D84-9D10-4BE9-9786-C5A6B2D7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E2830-ABF7-4FD8-92A9-0D5FAAFB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9B500-1F14-4404-9401-D360CA5D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396C2-1D66-48BE-986E-ABCA3032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6CD57-0EF0-4287-BFF5-781F9295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AFA83-C96A-4B5D-95A3-F5EF20B8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5288A-84C1-46D0-945B-DB5D5C4B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70BF1-02F7-4481-9D1B-4EF1A2F1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FBE98-3184-49B3-B9EB-9426A1F7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1E75D-2250-4499-97A7-F87B1C83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391C3-7554-43F4-BC69-3183A04E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7351A-87E8-4817-95C4-4B9317C3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80331-CC7E-49CF-AE87-3C92010E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91C77-529B-4EBE-BB46-AFA04FAD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40604-7CF1-4A57-9404-81D2A4FD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16C86-A0E7-4D51-9B48-11253026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643B5-BD76-4E83-82C2-66D8D25B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2D350-8D5B-47D4-A6AC-BE91AB5F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E1EBA-39CA-4353-97AB-B1D6CD5C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6DA-C3C4-4D84-946F-92C83845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5235E-0189-4A11-80CA-30A16A89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3B1E0-916B-491D-9685-6F543F6F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8B0F8-29A0-49B8-BA99-675D8E1F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46F15-4F3F-4897-A234-512BCC06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B1D70-553D-46B7-84E5-B6572656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0F3AD-4F75-45CD-92FD-74F2F87E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D4DDE-B963-42F5-86B1-F89D1D5F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A52AB-85AD-4524-A464-F867594B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49F37-A596-4300-91B5-81FDA210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17A96-7EBF-4942-88C4-C149C329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29C9-2438-4749-8AE6-6A9F1FBC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9C8D2-BEFB-4716-8022-A453DE77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62370-4DBE-4781-8BA7-2A6BC717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70BC3-6542-487C-AA13-6F93A311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D7264-CACC-4F40-B8DA-46FD53B4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B78CC-9D0B-4C81-944F-992FB9AB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F15A-7842-4DDD-A446-F0BC5124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1973B-24F5-410F-A4A6-154D2E4E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06685-6D80-4CA4-AAA9-CBD6B5B3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D8E80-C937-4B84-BA8A-506604A5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5E35E-36FE-44E3-839A-86A979BC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6A3-705C-4F46-AF6E-B483991B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028DE-F889-487C-B569-01A24353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7694D-E8A9-4BAC-85E6-958E06AF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E515E-BC64-4824-91D1-A8C19C90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170EF-68CE-4E3A-8916-6D86BE53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77FDA-5203-4CAB-90B7-5F4149FD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A4ECB-B6A3-49E3-8C2E-DC644569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D1FBE-4BEA-4EF4-B3DC-7987C44C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B8BDD-7A24-457E-A7CE-ACB27636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6BE5B-C8D3-4FC9-8E82-D754E5F1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72AB7-9E85-4422-A0A9-74F4C322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99D-659E-44A6-9ED4-73DE83C4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B7D0D-7568-4998-BCC6-0ABD2E11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5BD83-A551-4670-981D-96E89A84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862EC-E0BF-4E9F-BB71-F6488053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0E868-C7D9-4B21-A63C-6AD28794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D17C7-B54A-4E71-B2CC-75B47654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42597-7AE3-4762-8EBE-699D7B63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23759-688B-4945-BD2F-2120950A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6D9F2-AE0E-4F93-A0C3-CBE32AF0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E50F2-36CF-41E1-BA6F-8C79BE54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D66D7-0B9F-4B62-A96C-23266093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7BC-B6A6-4726-B911-E3A35E02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82409-DFDF-47B9-9A37-62D0773C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999AC-36C8-4DC8-9FBF-5634D191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3A061-2455-4BDE-AEE7-E64034B3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4B90C-A41C-4FC2-A6E0-531C96A6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42B11-4F2F-441E-AADE-016F9B3D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0FD99-F874-4E81-912D-EA6A4982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A560E-B95A-48B4-8B45-6A791734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80538-FEB6-4AA0-9800-910E3E19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0F763-FE48-4150-8C99-2E5AC543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560E2-6E19-4E10-AD6C-53DFD91B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5F0-A4A3-4C5F-AABF-B015567D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10D08-B93F-45FA-B0C3-2E00FD17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8AAB1-E10E-45D5-A2F8-1E68299B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77DA0-3A3C-4B2E-A2AF-F18BC72C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897DF-687A-4560-9503-2F121EB1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9F647-A19E-4C56-A568-20B0684F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5062B-4F88-4AEA-AE97-6B2282D1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5ED9C-4B3A-4374-9E17-A503B93A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0B80E-5196-4CA3-8896-B85D78EB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1DB67-7BFC-47BF-B625-1E83D308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60E82-E121-4772-91DA-A8FFDF16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83A-111C-4E19-8F1F-374F17BB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EBCEB-8363-457D-BB23-EE56CD47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7B005-0F66-48F1-84A5-8D172E09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836BF-9F59-44A6-A966-37C7DE71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74A17-205D-4C5F-9A6B-06B6699F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71DC4-9D97-484C-820B-E7F7B782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1C52C-ED8A-4C59-B9AC-4A6C75E1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4B7AF-3F59-490C-A387-CBB7823F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661C3-D0CD-46D1-AEA8-3A35851B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D67FC-2EF0-451F-9849-CBECC2B9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354EF-1C57-4257-8963-93DC667E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8DF1-C375-49B5-B971-0A143A90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88E68-F861-474B-A766-B16C9F38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DF02D-CBAE-48E6-B5AD-45CE9D8E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80C95-56BA-4133-8512-0ED77DDA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00BBB-B84D-4679-BAFD-D001A500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539CE-63BF-4A8B-9D4E-B05CE2BE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626A0-2502-4D09-B23A-049D2FB3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E6FEA-5461-4AD8-97B1-F3F043C1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B4972-CD93-4F11-81AF-5EE6533E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E5C26-65C2-4E95-BE1A-6005F227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480C8-A126-4E7D-9E8F-80A29F12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997F-07E8-4B3B-8125-48D3B01ED6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3ECB-E00A-40EA-B08B-F40B852095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5802-405E-45A5-BCC3-B780F94A8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4BC2-DA67-4145-993F-290E4CF4822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F4C6-0899-4388-9136-F8D36FD618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D26C-A8BE-4301-A252-B495AA8C34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3767-4239-4D71-9E55-1682A3C04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66AD-1DDD-431E-81C1-D83FDA2350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C202-37FE-4B69-AB4B-F09341B244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9609-A6C5-4354-BAA2-59D09F09F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CA8E-24CA-4873-A43F-C6790B50D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31A4-1288-4A10-A835-E9F21142A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0A13-688A-4D01-8AAF-17DCA5991F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едение специализированного учета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бучающихся с ограниченным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зможностями здоровья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 инвалидностью на этапе их обучения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профессиональных образовательных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рганизациях Самарской област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ст ЦПО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еменова Наталья Григорьевна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октября 2020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02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6397-0F48-4FAE-A918-B99C106865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учающийс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ограниченными возможностями здоровь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лицо, имеющее недостатки в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м и (или) психологическом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и, подтвержденные психолого-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о-педагогической комиссией и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ятствующие получению образовани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оздания специальных условий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тверждается заключением ПМПК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1" name="Рисунок 3" descr=""/>
          <p:cNvPicPr/>
          <p:nvPr/>
        </p:nvPicPr>
        <p:blipFill>
          <a:blip r:embed="rId1"/>
          <a:stretch/>
        </p:blipFill>
        <p:spPr>
          <a:xfrm>
            <a:off x="277920" y="476280"/>
            <a:ext cx="347796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F6D3-AA8C-4C0F-9371-0B8005641B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" name="AutoShape 5"/>
          <p:cNvSpPr/>
          <p:nvPr/>
        </p:nvSpPr>
        <p:spPr>
          <a:xfrm>
            <a:off x="190440" y="423720"/>
            <a:ext cx="89535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терминологии ФЗ-273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бразовательные программы для обучающихся с ОВЗ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тносятся к адаптированным образовательным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программам (АОП)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В соответствии с п. 28 ст. 2 ФЗ-273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АОП - это образовательная программа, адаптированная для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бучения лиц с ограниченными возможностями здоровья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с учетом особенностей их психофизического развития,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индивидуальных возможностей и при необходимости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беспечивающая коррекцию нарушений развития и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социальную адаптацию указанных лиц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4" name="Рисунок 3" descr=""/>
          <p:cNvPicPr/>
          <p:nvPr/>
        </p:nvPicPr>
        <p:blipFill>
          <a:blip r:embed="rId1"/>
          <a:stretch/>
        </p:blipFill>
        <p:spPr>
          <a:xfrm>
            <a:off x="190440" y="130320"/>
            <a:ext cx="347832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D291-7A90-4C19-9D97-AA97A86431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тья 79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рганизация получени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обучающимис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граниченными возможностями здоровья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7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8DAA-2FC6-4DF8-B5C2-AB48C0E96C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14616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40" name="Рисунок 3" descr=""/>
          <p:cNvPicPr/>
          <p:nvPr/>
        </p:nvPicPr>
        <p:blipFill>
          <a:blip r:embed="rId1"/>
          <a:stretch/>
        </p:blipFill>
        <p:spPr>
          <a:xfrm>
            <a:off x="277920" y="476280"/>
            <a:ext cx="3477960" cy="1217520"/>
          </a:xfrm>
          <a:prstGeom prst="rect">
            <a:avLst/>
          </a:prstGeom>
          <a:ln w="0">
            <a:noFill/>
          </a:ln>
        </p:spPr>
      </p:pic>
      <p:pic>
        <p:nvPicPr>
          <p:cNvPr id="541" name="Группа 22" descr=""/>
          <p:cNvPicPr/>
          <p:nvPr/>
        </p:nvPicPr>
        <p:blipFill>
          <a:blip r:embed="rId2"/>
          <a:stretch/>
        </p:blipFill>
        <p:spPr>
          <a:xfrm>
            <a:off x="1785960" y="1481040"/>
            <a:ext cx="3030480" cy="3030480"/>
          </a:xfrm>
          <a:prstGeom prst="rect">
            <a:avLst/>
          </a:prstGeom>
          <a:ln w="0">
            <a:noFill/>
          </a:ln>
        </p:spPr>
      </p:pic>
      <p:pic>
        <p:nvPicPr>
          <p:cNvPr id="542" name="Группа 10" descr=""/>
          <p:cNvPicPr/>
          <p:nvPr/>
        </p:nvPicPr>
        <p:blipFill>
          <a:blip r:embed="rId3"/>
          <a:stretch/>
        </p:blipFill>
        <p:spPr>
          <a:xfrm>
            <a:off x="4400640" y="1530360"/>
            <a:ext cx="3262320" cy="3029040"/>
          </a:xfrm>
          <a:prstGeom prst="rect">
            <a:avLst/>
          </a:prstGeom>
          <a:ln w="0">
            <a:noFill/>
          </a:ln>
        </p:spPr>
      </p:pic>
      <p:pic>
        <p:nvPicPr>
          <p:cNvPr id="543" name="Группа 13" descr=""/>
          <p:cNvPicPr/>
          <p:nvPr/>
        </p:nvPicPr>
        <p:blipFill>
          <a:blip r:embed="rId4"/>
          <a:stretch/>
        </p:blipFill>
        <p:spPr>
          <a:xfrm>
            <a:off x="3114720" y="3249720"/>
            <a:ext cx="3193920" cy="30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698A-93C3-4D75-BF52-F2829FF438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5" name="AutoShape 5"/>
          <p:cNvSpPr/>
          <p:nvPr/>
        </p:nvSpPr>
        <p:spPr>
          <a:xfrm>
            <a:off x="201600" y="56052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46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14"/>
          <p:cNvSpPr/>
          <p:nvPr/>
        </p:nvSpPr>
        <p:spPr>
          <a:xfrm>
            <a:off x="506520" y="2252520"/>
            <a:ext cx="7697520" cy="18669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9bde22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Письмо о направлении требований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к организации образовательного процесса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для обучения инвалидов и лиц с ОВЗ в ПОО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т 18 марта 2014г.  № 06-281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8" name="AutoShape 13"/>
          <p:cNvSpPr/>
          <p:nvPr/>
        </p:nvSpPr>
        <p:spPr>
          <a:xfrm>
            <a:off x="484200" y="4351320"/>
            <a:ext cx="7697880" cy="18669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9bde22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Письмо Министерства образования и науки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Российской Федерации,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Федеральной службы по надзору в сфер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бразования и науки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т 14 ноября 2016 г. №05-616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6C41-E12D-40FC-9B84-6A5F752C84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0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й учет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имя, отчество обучающегося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ееся образование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семье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группе инвалидности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иде нарушения здоровья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 ПМПК и/или МСЭ (ИПРА)*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специалистах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социокультурной среды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на обработку персональных данных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51" name="Рисунок 3" descr=""/>
          <p:cNvPicPr/>
          <p:nvPr/>
        </p:nvPicPr>
        <p:blipFill>
          <a:blip r:embed="rId1"/>
          <a:stretch/>
        </p:blipFill>
        <p:spPr>
          <a:xfrm>
            <a:off x="493560" y="798480"/>
            <a:ext cx="347832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489B-39D0-4255-A16C-1A533369D4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3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нарушений здоровья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я слуха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я зрения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я опорно-двигательного аппарата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ругие виды нарушений здоровья (соматические заболевания,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ые, психические нарушения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я интеллекта (ЗПР, УО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ожные дефекты (2 и более нарушений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есение обучающихся к тому или иному виду нарушений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я осуществляется по тому виду нарушений здоровья,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в большей степен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трудняет учебный процесс и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ебует создания специальных условий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54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" descr=""/>
          <p:cNvPicPr/>
          <p:nvPr/>
        </p:nvPicPr>
        <p:blipFill>
          <a:blip r:embed="rId2"/>
          <a:stretch/>
        </p:blipFill>
        <p:spPr>
          <a:xfrm>
            <a:off x="324000" y="4863960"/>
            <a:ext cx="107604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4488-416C-4C45-9B0D-494B6E01EE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7" name="AutoShape 5"/>
          <p:cNvSpPr/>
          <p:nvPr/>
        </p:nvSpPr>
        <p:spPr>
          <a:xfrm>
            <a:off x="322200" y="27288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ПМПК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58" name="Рисунок 3" descr=""/>
          <p:cNvPicPr/>
          <p:nvPr/>
        </p:nvPicPr>
        <p:blipFill>
          <a:blip r:embed="rId1"/>
          <a:stretch/>
        </p:blipFill>
        <p:spPr>
          <a:xfrm>
            <a:off x="480960" y="37476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" descr=""/>
          <p:cNvPicPr/>
          <p:nvPr/>
        </p:nvPicPr>
        <p:blipFill>
          <a:blip r:embed="rId2"/>
          <a:stretch/>
        </p:blipFill>
        <p:spPr>
          <a:xfrm>
            <a:off x="784080" y="1817640"/>
            <a:ext cx="7661520" cy="424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A461-D742-41F9-B0C1-6D4470DBC8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1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учета лиц с ОВЗ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62" name="Рисунок 3" descr=""/>
          <p:cNvPicPr/>
          <p:nvPr/>
        </p:nvPicPr>
        <p:blipFill>
          <a:blip r:embed="rId1"/>
          <a:stretch/>
        </p:blipFill>
        <p:spPr>
          <a:xfrm>
            <a:off x="480960" y="37476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"/>
          <p:cNvPicPr/>
          <p:nvPr/>
        </p:nvPicPr>
        <p:blipFill>
          <a:blip r:embed="rId2"/>
          <a:stretch/>
        </p:blipFill>
        <p:spPr>
          <a:xfrm>
            <a:off x="534960" y="1685880"/>
            <a:ext cx="8285040" cy="458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A88B-43E0-43B8-A9A2-0A0C37726B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5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66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" descr=""/>
          <p:cNvPicPr/>
          <p:nvPr/>
        </p:nvPicPr>
        <p:blipFill>
          <a:blip r:embed="rId2"/>
          <a:stretch/>
        </p:blipFill>
        <p:spPr>
          <a:xfrm>
            <a:off x="378000" y="2066760"/>
            <a:ext cx="8121600" cy="433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657C-DBB3-4D04-BC5F-9E25F1215D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05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1" descr=""/>
          <p:cNvPicPr/>
          <p:nvPr/>
        </p:nvPicPr>
        <p:blipFill>
          <a:blip r:embed="rId2"/>
          <a:stretch/>
        </p:blipFill>
        <p:spPr>
          <a:xfrm>
            <a:off x="466560" y="2044800"/>
            <a:ext cx="7893360" cy="44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19C1-4F3A-4982-ACC9-B862E0F81F1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9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70" name="Рисунок 3" descr=""/>
          <p:cNvPicPr/>
          <p:nvPr/>
        </p:nvPicPr>
        <p:blipFill>
          <a:blip r:embed="rId1"/>
          <a:stretch/>
        </p:blipFill>
        <p:spPr>
          <a:xfrm>
            <a:off x="190440" y="48096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1" descr=""/>
          <p:cNvPicPr/>
          <p:nvPr/>
        </p:nvPicPr>
        <p:blipFill>
          <a:blip r:embed="rId2"/>
          <a:stretch/>
        </p:blipFill>
        <p:spPr>
          <a:xfrm>
            <a:off x="309600" y="1754280"/>
            <a:ext cx="8258040" cy="46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A11A-DF63-4209-BF09-7854CA795F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3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74" name="Рисунок 3" descr=""/>
          <p:cNvPicPr/>
          <p:nvPr/>
        </p:nvPicPr>
        <p:blipFill>
          <a:blip r:embed="rId1"/>
          <a:stretch/>
        </p:blipFill>
        <p:spPr>
          <a:xfrm>
            <a:off x="374760" y="423720"/>
            <a:ext cx="3477960" cy="1217880"/>
          </a:xfrm>
          <a:prstGeom prst="rect">
            <a:avLst/>
          </a:prstGeom>
          <a:ln w="0">
            <a:noFill/>
          </a:ln>
        </p:spPr>
      </p:pic>
      <p:pic>
        <p:nvPicPr>
          <p:cNvPr id="575" name="Рисунок 1" descr=""/>
          <p:cNvPicPr/>
          <p:nvPr/>
        </p:nvPicPr>
        <p:blipFill>
          <a:blip r:embed="rId2"/>
          <a:stretch/>
        </p:blipFill>
        <p:spPr>
          <a:xfrm>
            <a:off x="374760" y="1641600"/>
            <a:ext cx="8312040" cy="460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F0E2-8CB6-4F8E-8F9E-2C73CFFB30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7" name="AutoShape 5"/>
          <p:cNvSpPr/>
          <p:nvPr/>
        </p:nvSpPr>
        <p:spPr>
          <a:xfrm>
            <a:off x="190440" y="56052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78" name="Рисунок 3" descr=""/>
          <p:cNvPicPr/>
          <p:nvPr/>
        </p:nvPicPr>
        <p:blipFill>
          <a:blip r:embed="rId1"/>
          <a:stretch/>
        </p:blipFill>
        <p:spPr>
          <a:xfrm>
            <a:off x="412920" y="442800"/>
            <a:ext cx="3477960" cy="1217880"/>
          </a:xfrm>
          <a:prstGeom prst="rect">
            <a:avLst/>
          </a:prstGeom>
          <a:ln w="0">
            <a:noFill/>
          </a:ln>
        </p:spPr>
      </p:pic>
      <p:pic>
        <p:nvPicPr>
          <p:cNvPr id="579" name="Рисунок 1" descr=""/>
          <p:cNvPicPr/>
          <p:nvPr/>
        </p:nvPicPr>
        <p:blipFill>
          <a:blip r:embed="rId2"/>
          <a:stretch/>
        </p:blipFill>
        <p:spPr>
          <a:xfrm>
            <a:off x="71280" y="1541520"/>
            <a:ext cx="8626680" cy="518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B030-E696-42BF-949A-61BC369F6E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9bde22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82" name="Рисунок 3" descr=""/>
          <p:cNvPicPr/>
          <p:nvPr/>
        </p:nvPicPr>
        <p:blipFill>
          <a:blip r:embed="rId1"/>
          <a:stretch/>
        </p:blipFill>
        <p:spPr>
          <a:xfrm>
            <a:off x="204840" y="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583" name="Рисунок 6" descr="D:\ЦПО\Мониторинг ОВЗ\Спец.учет\2020\Консультация\IMG-025e705f953f29d0c4903dde97d07b5f-V.jpg"/>
          <p:cNvPicPr/>
          <p:nvPr/>
        </p:nvPicPr>
        <p:blipFill>
          <a:blip r:embed="rId2"/>
          <a:srcRect l="0" t="0" r="0" b="36503"/>
          <a:stretch/>
        </p:blipFill>
        <p:spPr>
          <a:xfrm>
            <a:off x="1635120" y="763560"/>
            <a:ext cx="6348240" cy="56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438C-940B-42A9-85F1-8242A57A15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5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86" name="Рисунок 3" descr=""/>
          <p:cNvPicPr/>
          <p:nvPr/>
        </p:nvPicPr>
        <p:blipFill>
          <a:blip r:embed="rId1"/>
          <a:stretch/>
        </p:blipFill>
        <p:spPr>
          <a:xfrm>
            <a:off x="0" y="1584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4" descr="D:\ЦПО\Мониторинг ОВЗ\Спец.учет\2020\Консультация\IMG-28aa1bba21d44e932079aa90d4898217-V.jpg"/>
          <p:cNvPicPr/>
          <p:nvPr/>
        </p:nvPicPr>
        <p:blipFill>
          <a:blip r:embed="rId2"/>
          <a:srcRect l="6737" t="30789" r="9880" b="20745"/>
          <a:stretch/>
        </p:blipFill>
        <p:spPr>
          <a:xfrm>
            <a:off x="1405080" y="1168560"/>
            <a:ext cx="709740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10D1-1E62-4226-A7ED-AD9D90E9B6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ПМПК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тельно для предоставления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лендарного года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аты его подписания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Это означает, что, если в течении года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бучающийся не предоставил заключение ПМПК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в образовательную организацию,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ему вновь нужно будет пройти ПМПК,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если он примет решение о необходимост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реализации рекомендаций ПМПК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90" name="Рисунок 3" descr=""/>
          <p:cNvPicPr/>
          <p:nvPr/>
        </p:nvPicPr>
        <p:blipFill>
          <a:blip r:embed="rId1"/>
          <a:stretch/>
        </p:blipFill>
        <p:spPr>
          <a:xfrm>
            <a:off x="357120" y="185760"/>
            <a:ext cx="347832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36B3-31CF-4B55-88F7-001AF79510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2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являю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ами о признани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егося лицом с ОВЗ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справка о состоянии здоровья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педагога-психолога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 врачебных комиссий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 об установлении инвалидности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е законодательство не устанавливает порядок и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установление статуса «обучающийся с ОВЗ»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лиц, имеющих статус «инвалид» («ребенок-инвалид»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93" name="Рисунок 3" descr=""/>
          <p:cNvPicPr/>
          <p:nvPr/>
        </p:nvPicPr>
        <p:blipFill>
          <a:blip r:embed="rId1"/>
          <a:stretch/>
        </p:blipFill>
        <p:spPr>
          <a:xfrm>
            <a:off x="480960" y="37476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" descr=""/>
          <p:cNvPicPr/>
          <p:nvPr/>
        </p:nvPicPr>
        <p:blipFill>
          <a:blip r:embed="rId2"/>
          <a:stretch/>
        </p:blipFill>
        <p:spPr>
          <a:xfrm>
            <a:off x="406440" y="4513320"/>
            <a:ext cx="1076400" cy="122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1005-4D6C-435C-B0EA-D2D4DDA278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жение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примерного Положения 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ом консилиуме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организации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09.09.2019г. Р-93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97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AD9F-0D86-4AEA-ABC0-BD261D2742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, содержащаяся в справке МСЭ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амилия, имя, отчество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та рождения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сто жительства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а инвалидность впервые или повторно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па инвалидности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чина инвалидности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ок, на который установлена инвалидность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кретная дата или бессрочно)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00" name="Рисунок 3" descr=""/>
          <p:cNvPicPr/>
          <p:nvPr/>
        </p:nvPicPr>
        <p:blipFill>
          <a:blip r:embed="rId1"/>
          <a:stretch/>
        </p:blipFill>
        <p:spPr>
          <a:xfrm>
            <a:off x="480960" y="374760"/>
            <a:ext cx="347832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C4E1-A60E-4735-84CE-06A48796F2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2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 МСЭ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03" name="Рисунок 3" descr=""/>
          <p:cNvPicPr/>
          <p:nvPr/>
        </p:nvPicPr>
        <p:blipFill>
          <a:blip r:embed="rId1"/>
          <a:stretch/>
        </p:blipFill>
        <p:spPr>
          <a:xfrm>
            <a:off x="480960" y="37476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D:\по программам ПК\образец справки МСЭ.jpg"/>
          <p:cNvPicPr/>
          <p:nvPr/>
        </p:nvPicPr>
        <p:blipFill>
          <a:blip r:embed="rId2"/>
          <a:stretch/>
        </p:blipFill>
        <p:spPr>
          <a:xfrm>
            <a:off x="996840" y="1252440"/>
            <a:ext cx="7221600" cy="50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F726-73A5-44A2-87E5-22CB1288E7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8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09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1" descr=""/>
          <p:cNvPicPr/>
          <p:nvPr/>
        </p:nvPicPr>
        <p:blipFill>
          <a:blip r:embed="rId2"/>
          <a:stretch/>
        </p:blipFill>
        <p:spPr>
          <a:xfrm>
            <a:off x="295200" y="409680"/>
            <a:ext cx="8286840" cy="615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5484-8A96-43C1-A48F-959A26AAA3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 МСЭ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07" name="Рисунок 3" descr=""/>
          <p:cNvPicPr/>
          <p:nvPr/>
        </p:nvPicPr>
        <p:blipFill>
          <a:blip r:embed="rId1"/>
          <a:stretch/>
        </p:blipFill>
        <p:spPr>
          <a:xfrm>
            <a:off x="357120" y="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608" name="Рисунок 6" descr="D:\ЦПО\Мониторинг ОВЗ\Спец.учет\2020\Консультация\IMG-fda9d2ebf7267f87ffa338014ef471f3-V.jpg"/>
          <p:cNvPicPr/>
          <p:nvPr/>
        </p:nvPicPr>
        <p:blipFill>
          <a:blip r:embed="rId2"/>
          <a:srcRect l="0" t="51111" r="0" b="15336"/>
          <a:stretch/>
        </p:blipFill>
        <p:spPr>
          <a:xfrm>
            <a:off x="824040" y="1338120"/>
            <a:ext cx="7761240" cy="490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8DAC-6F1C-49D2-8553-D94B890DC9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0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отчетной документации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11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6B10-211B-4780-A72E-0A33360444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190440" y="41112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Распоряжение 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Губернатора Самарской област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т 05.11.2015 № 644-р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«Об утверждении Межведомственного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комплексного плана мероприятий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по организации инклюзивного образования 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созданию специальных условий для получения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профессионального образования инвалидами и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лицами с ограниченными возможностям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здоровья в Самарской области на 2015-2020 годы» 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(ред. 04.08.2017г.)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14" name="Рисунок 3" descr=""/>
          <p:cNvPicPr/>
          <p:nvPr/>
        </p:nvPicPr>
        <p:blipFill>
          <a:blip r:embed="rId1"/>
          <a:stretch/>
        </p:blipFill>
        <p:spPr>
          <a:xfrm>
            <a:off x="190440" y="64296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" descr=""/>
          <p:cNvPicPr/>
          <p:nvPr/>
        </p:nvPicPr>
        <p:blipFill>
          <a:blip r:embed="rId2"/>
          <a:stretch/>
        </p:blipFill>
        <p:spPr>
          <a:xfrm>
            <a:off x="374760" y="2092320"/>
            <a:ext cx="107604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EB59-5394-46ED-BD0B-C3B484C405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7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рт-апрел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наличия в ПО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й для получения профессионального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инвалидами и лицами с ОВЗ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ктябр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аза данных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ециализированному учету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18" name="Рисунок 3" descr=""/>
          <p:cNvPicPr/>
          <p:nvPr/>
        </p:nvPicPr>
        <p:blipFill>
          <a:blip r:embed="rId1"/>
          <a:stretch/>
        </p:blipFill>
        <p:spPr>
          <a:xfrm>
            <a:off x="331920" y="423720"/>
            <a:ext cx="3477960" cy="12178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" descr=""/>
          <p:cNvPicPr/>
          <p:nvPr/>
        </p:nvPicPr>
        <p:blipFill>
          <a:blip r:embed="rId2"/>
          <a:stretch/>
        </p:blipFill>
        <p:spPr>
          <a:xfrm>
            <a:off x="331920" y="1811160"/>
            <a:ext cx="107604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188F-C805-41CD-958D-8C0E1F928E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1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валидов и лиц с ОВЗ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22" name="Рисунок 3" descr=""/>
          <p:cNvPicPr/>
          <p:nvPr/>
        </p:nvPicPr>
        <p:blipFill>
          <a:blip r:embed="rId1"/>
          <a:stretch/>
        </p:blipFill>
        <p:spPr>
          <a:xfrm>
            <a:off x="507960" y="743040"/>
            <a:ext cx="3478320" cy="12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3" name=""/>
          <p:cNvGraphicFramePr/>
          <p:nvPr/>
        </p:nvGraphicFramePr>
        <p:xfrm>
          <a:off x="814320" y="2476440"/>
          <a:ext cx="7248600" cy="4073760"/>
        </p:xfrm>
        <a:graphic>
          <a:graphicData uri="http://schemas.openxmlformats.org/drawingml/2006/table">
            <a:tbl>
              <a:tblPr/>
              <a:tblGrid>
                <a:gridCol w="2416320"/>
                <a:gridCol w="2415960"/>
                <a:gridCol w="2416320"/>
              </a:tblGrid>
              <a:tr h="1132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По программам СПО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По программам профессионального обучения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Инвалидов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Обучающихся с ОВЗ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Инвалид и обучающийся с ОВЗ (2 статуса одновременно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Всего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2E9C-F628-4A9E-92E7-208C5CBA6D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5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валидов и лиц с ОВЗ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26" name="Рисунок 3" descr=""/>
          <p:cNvPicPr/>
          <p:nvPr/>
        </p:nvPicPr>
        <p:blipFill>
          <a:blip r:embed="rId1"/>
          <a:stretch/>
        </p:blipFill>
        <p:spPr>
          <a:xfrm>
            <a:off x="507960" y="743040"/>
            <a:ext cx="3478320" cy="12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7" name=""/>
          <p:cNvGraphicFramePr/>
          <p:nvPr/>
        </p:nvGraphicFramePr>
        <p:xfrm>
          <a:off x="709560" y="2496960"/>
          <a:ext cx="7344000" cy="4259520"/>
        </p:xfrm>
        <a:graphic>
          <a:graphicData uri="http://schemas.openxmlformats.org/drawingml/2006/table">
            <a:tbl>
              <a:tblPr/>
              <a:tblGrid>
                <a:gridCol w="2448000"/>
                <a:gridCol w="2448000"/>
                <a:gridCol w="2448000"/>
              </a:tblGrid>
              <a:tr h="1238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По программам СПО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По программам профессионального обучения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Инвалидов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Обучающихся с ОВЗ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Инвалид и обучающийся с ОВЗ (2 статуса одновременно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Всего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E5BD-5349-477B-9296-962D73ED5F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9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бланка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ого учета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30" name="Рисунок 3" descr=""/>
          <p:cNvPicPr/>
          <p:nvPr/>
        </p:nvPicPr>
        <p:blipFill>
          <a:blip r:embed="rId1"/>
          <a:stretch/>
        </p:blipFill>
        <p:spPr>
          <a:xfrm>
            <a:off x="331920" y="423720"/>
            <a:ext cx="3477960" cy="12178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"/>
          <p:cNvPicPr/>
          <p:nvPr/>
        </p:nvPicPr>
        <p:blipFill>
          <a:blip r:embed="rId2"/>
          <a:stretch/>
        </p:blipFill>
        <p:spPr>
          <a:xfrm>
            <a:off x="331920" y="1811160"/>
            <a:ext cx="107604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A129-D948-49E8-8F03-0029580AEC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3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сдачи базы данных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ециализированному учету –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 30 октября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бинет 107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34" name="Рисунок 3" descr=""/>
          <p:cNvPicPr/>
          <p:nvPr/>
        </p:nvPicPr>
        <p:blipFill>
          <a:blip r:embed="rId1"/>
          <a:stretch/>
        </p:blipFill>
        <p:spPr>
          <a:xfrm>
            <a:off x="331920" y="423720"/>
            <a:ext cx="3477960" cy="12178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" descr=""/>
          <p:cNvPicPr/>
          <p:nvPr/>
        </p:nvPicPr>
        <p:blipFill>
          <a:blip r:embed="rId2"/>
          <a:stretch/>
        </p:blipFill>
        <p:spPr>
          <a:xfrm>
            <a:off x="331920" y="1811160"/>
            <a:ext cx="107604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19DC-4EDE-4A1B-B249-6125D5C49E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7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ова Наталья Григорьевна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334-04-71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9272048720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enova@cposo.ru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38" name="Рисунок 3" descr=""/>
          <p:cNvPicPr/>
          <p:nvPr/>
        </p:nvPicPr>
        <p:blipFill>
          <a:blip r:embed="rId1"/>
          <a:stretch/>
        </p:blipFill>
        <p:spPr>
          <a:xfrm>
            <a:off x="331920" y="423720"/>
            <a:ext cx="3477960" cy="12178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331920" y="1811160"/>
            <a:ext cx="107604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6699-CF29-4C8B-B390-D4A4B95E4B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2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4.11.1995 г. № 181-ФЗ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социальной защите инвалидов в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»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л.ред. 18.07.2019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13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0550-1EB7-4D6A-99AB-AF6307ECA1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5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валид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о, которое имеет нарушение здоровь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тойким расстройством функций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а, обусловленное заболеваниями,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ми травм или дефектами,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одящее к ограничению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деятельности и вызывающее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его социальной защиты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тверждается справкой об инвалидности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юро МСЭ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16" name="Рисунок 3" descr=""/>
          <p:cNvPicPr/>
          <p:nvPr/>
        </p:nvPicPr>
        <p:blipFill>
          <a:blip r:embed="rId1"/>
          <a:stretch/>
        </p:blipFill>
        <p:spPr>
          <a:xfrm>
            <a:off x="190440" y="42372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EEF6-8A1D-4D22-8C00-A63CBA2364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8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граничение жизнедеятельност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лна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частичная утрата лицом способности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возможности осуществлять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служивание, самостоятельн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вигаться, ориентироваться, общаться,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овать свое поведение, обучатьс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ниматься трудовой деятельностью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19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D45A-7916-4CEC-9124-C7B16CCF71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1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бенок-инвали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категория,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емая инвалидам в возрасте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8 лет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2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2A7E-A37E-41ED-9330-BD99AB19DD7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тья 19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инвалидов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5" name="Рисунок 3" descr=""/>
          <p:cNvPicPr/>
          <p:nvPr/>
        </p:nvPicPr>
        <p:blipFill>
          <a:blip r:embed="rId1"/>
          <a:stretch/>
        </p:blipFill>
        <p:spPr>
          <a:xfrm>
            <a:off x="630360" y="620640"/>
            <a:ext cx="347796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14CD-FF07-4986-AF94-239E0F1576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9.12.2012 г. № 273-ФЗ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бразовании в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»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л.ред. 26.07.2019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8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3:55:37Z</dcterms:created>
  <dc:creator>Пользователь</dc:creator>
  <dc:description/>
  <dc:language>en-US</dc:language>
  <cp:lastModifiedBy>Пользователь</cp:lastModifiedBy>
  <dcterms:modified xsi:type="dcterms:W3CDTF">2020-10-12T12:26:26Z</dcterms:modified>
  <cp:revision>335</cp:revision>
  <dc:subject/>
  <dc:title>Основные виды технических средств обучения, их классификация и характерис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f000000000001024140</vt:lpwstr>
  </property>
</Properties>
</file>